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9080-9555-44E2-BABE-D80C8AE5F3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4D15-2D81-44AD-B25F-46F499CF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267B-2724-45AD-96EB-1B093B4C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CDB93-4F7E-4964-8DBF-0E8586F146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3FEA-FED0-434D-BA9A-C44C6442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145C-C5DA-4EFC-A764-3F1B66A4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015C-72DC-4F8E-8DAD-3D3C6B85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2DE3D-F051-47A7-9AD1-85AA581B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02EC8-6D72-4713-B39C-C6926063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1443B-2B91-4568-ADAE-FC391222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595D-F392-4D8F-86DD-ED8D7B1F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CFC1-4967-4B8F-B6E5-369A7BB7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AD63-405E-4366-9A86-D42F5F69F8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20500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第四章 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第六节    中国传统康复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661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毕桂芝</a:t>
            </a:r>
            <a:r>
              <a:rPr b="0" lang="zh-CN" sz="4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火罐法 ：闪火法 、投火法 、贴壁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罐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抽气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3904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起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适应证与禁忌证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7576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作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擦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摩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22304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推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拿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揉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296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搓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拍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捶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729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康复法种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29612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212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六、中药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813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在中医理论的指导下，辨证应用中药，以治疗疾病或促进康复的一种方法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包括植物药、动物药、矿物药及部分化学、生物制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作用：舒经活络、强筋健骨、行气活血、化瘀止痛、益气养血、扶正祛邪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七、饮食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符合辨证施治的原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所用之食物，必须与所用之药相辅佐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饮食宜清淡，反对膏粱厚味、过食肥甘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55640" y="1341360"/>
            <a:ext cx="76564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针灸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中药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饮食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36740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中医理论的指导下对患者进行康复治疗的方法 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经活络，促进康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气活血，散寒止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扶正祛邪，调整阴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56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处方原则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选穴的原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近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远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随症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穴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71600"/>
            <a:ext cx="784872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刺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位 ：仰卧位、侧卧位、坐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进针方法：指切进针法 、夹持进针法 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提捏进针法 、舒张进针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灸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条灸 ：温和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雀啄灸、回旋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条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炷灸：直接灸 、隔姜灸、隔蒜灸 、隔饼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舒适的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针刺部位及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意外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异常情况的处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部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疼痛部位或相应穴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55:34Z</dcterms:modified>
  <cp:revision>92</cp:revision>
  <dc:subject/>
  <dc:title>内科护理学</dc:title>
</cp:coreProperties>
</file>